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C625-8A30-4E36-9770-3CA8A7FB6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1ED2-AEFA-4AF8-9EA7-282CACA8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B9B7-4C63-434A-B14A-A0168BC34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6781-C921-4BF7-B5B4-11EE65D5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DC4A-86F7-4998-9662-772D9E793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10D6-8605-4CBD-9311-0B884F44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72FD-40C9-4A98-A6E8-B04784C6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EDE6-A737-4797-9E77-ADCAED7E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E458-77E3-4682-BAF6-D9679486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631E-CADD-4313-88E6-A6D3C322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F470-53F5-4841-83C5-1D0833E8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FFE6-D2F0-4903-AE3A-791A8D4A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2093-664E-44CA-81B9-6F308424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8D38-384F-403A-A21E-82CFA6AA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D47F-D469-4F0D-A684-C9C43358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BC26-74CE-49FA-8B12-F8F19F9B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8D91-40C9-4720-8046-9DDE32571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5F62-837E-4ACD-9F88-34DFF0B5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1715-B433-4A8C-A55B-59EBD752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C41F-030D-4339-9497-62871EF6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4DD1-52D6-48A5-AC62-A21CD5FF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C010-7D66-42E2-B8C9-053DDC24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64FE-4AFA-4B83-BC74-A89D54EE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0935-7C5D-4374-9E37-DC710A0F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33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F878-0A96-4813-8AA8-A4DA3C3C40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33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2E87-87B7-448B-B24B-46B4C5756F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33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A Remnant Shall Return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rter 8, Lesson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es 102 – 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h. 4-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33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52560"/>
            <a:ext cx="8229600" cy="6752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3276720" y="1295280"/>
            <a:ext cx="2257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e are her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781680" y="167652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2666880"/>
            <a:ext cx="1143000" cy="1143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33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e1"/>
                </a:solidFill>
                <a:latin typeface="Times New Roman"/>
              </a:rPr>
              <a:t>Nehemiah’s Troubles In Rebuilding the Wall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1"/>
                </a:solidFill>
                <a:latin typeface="Arial"/>
              </a:rPr>
              <a:t>Overcoming Ridicule – 4:1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1"/>
                </a:solidFill>
                <a:latin typeface="Arial"/>
              </a:rPr>
              <a:t>Conspiracy to stop the work – 4:7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1"/>
                </a:solidFill>
                <a:latin typeface="Arial"/>
              </a:rPr>
              <a:t>Discouragement – 4: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1"/>
                </a:solidFill>
                <a:latin typeface="Arial"/>
              </a:rPr>
              <a:t>Intimidation – 4:11-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33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e1"/>
                </a:solidFill>
                <a:latin typeface="Times New Roman"/>
              </a:rPr>
              <a:t>Internal Strif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1"/>
                </a:solidFill>
                <a:latin typeface="Arial"/>
              </a:rPr>
              <a:t>The problem of wealthy usury of the poor – 5:1-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e1"/>
                </a:solidFill>
                <a:latin typeface="Arial"/>
              </a:rPr>
              <a:t>Ruthlessness – 5:1-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e1"/>
                </a:solidFill>
                <a:latin typeface="Arial"/>
              </a:rPr>
              <a:t>Reprimand – 5:6-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e1"/>
                </a:solidFill>
                <a:latin typeface="Arial"/>
              </a:rPr>
              <a:t>Repentance – 5:12-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e1"/>
                </a:solidFill>
                <a:latin typeface="Arial"/>
              </a:rPr>
              <a:t>Role Model in Nehemiah – 5:14-1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33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e1"/>
                </a:solidFill>
                <a:latin typeface="Times New Roman"/>
              </a:rPr>
              <a:t>Without and Withi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1"/>
                </a:solidFill>
                <a:latin typeface="Arial"/>
              </a:rPr>
              <a:t>Nehemiah’s enemies seek to entrap him – 6:1-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1"/>
                </a:solidFill>
                <a:latin typeface="Arial"/>
              </a:rPr>
              <a:t>Constant fraternizing with the enemy on the part of some – 6:17-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1"/>
                </a:solidFill>
                <a:latin typeface="Arial"/>
              </a:rPr>
              <a:t>Nehemiah appoints men to govern Jerusalem – 7: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1"/>
                </a:solidFill>
                <a:latin typeface="Arial"/>
              </a:rPr>
              <a:t>The people of the first return are reckoned by genealogy – 7:5-73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1"/>
                </a:solidFill>
                <a:latin typeface="Arial"/>
              </a:rPr>
              <a:t>The Feast of Tabernacles is observed – 7:73b – 8: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1"/>
                </a:solidFill>
                <a:latin typeface="Arial"/>
              </a:rPr>
              <a:t>A public confession of sin and a renewal of the covenant – 9:1 -10: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33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e1"/>
                </a:solidFill>
                <a:latin typeface="Times New Roman"/>
              </a:rPr>
              <a:t>Without and Withi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1"/>
                </a:solidFill>
                <a:latin typeface="Arial"/>
              </a:rPr>
              <a:t>The inhabitants of Jerusalem and other cities – 11:1 – 12: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1"/>
                </a:solidFill>
                <a:latin typeface="Arial"/>
              </a:rPr>
              <a:t>The walls of Jerusalem are dedicated – 12:27-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1"/>
                </a:solidFill>
                <a:latin typeface="Arial"/>
              </a:rPr>
              <a:t>Nehemiah cancels Eliashib’s hospitality to Tobiah – 13:1-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1"/>
                </a:solidFill>
                <a:latin typeface="Arial"/>
              </a:rPr>
              <a:t>Nehemiah restores the contributions for the support of the Levites – 13:10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1"/>
                </a:solidFill>
                <a:latin typeface="Arial"/>
              </a:rPr>
              <a:t>Nehemiah stopped those who were breaking the Sabbath – 13:15-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33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e1"/>
                </a:solidFill>
                <a:latin typeface="Times New Roman"/>
              </a:rPr>
              <a:t>Without and Withi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1"/>
                </a:solidFill>
                <a:latin typeface="Arial"/>
              </a:rPr>
              <a:t>Nehemiah deals with mixed marriages – 13:23-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02:54:35Z</dcterms:created>
  <dc:creator>Terry W. Benton</dc:creator>
  <dc:description/>
  <dc:language>en-US</dc:language>
  <cp:lastModifiedBy>Frank D Vines</cp:lastModifiedBy>
  <dcterms:modified xsi:type="dcterms:W3CDTF">2006-05-29T01:16:36Z</dcterms:modified>
  <cp:revision>6</cp:revision>
  <dc:subject/>
  <dc:title>A Remnant Shall Return</dc:title>
</cp:coreProperties>
</file>